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487-A2C2-43BA-BAD6-C22D010C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5C0-B20E-41BA-B20A-75780F7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115-7D82-43BC-AE06-4C8D2496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209-9187-4CFE-AFF0-A7BB1BD1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B15-1EC5-4AF6-B4DB-08453589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A47-3809-436A-8D76-5E976BF6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43C-5B7E-4161-B6A5-8A2F26E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60E-419D-4714-9263-BBB9CD49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B5D-4FEC-40D9-AEE8-EA09635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AE3-B1F9-42E1-BA67-2C41E87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2D4-F0AD-4FA8-BBD7-E0C04CB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633-93B2-4F31-8051-D7FFAF7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91B9-A5F7-4992-AF1E-3F194EB045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476280"/>
            <a:ext cx="8424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LANs - HW and S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2133720"/>
            <a:ext cx="5111640" cy="43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y the end of this section, you will know and understand the hardware and software involved in making a LA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49440" y="2708280"/>
            <a:ext cx="6985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18900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File Server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341360"/>
            <a:ext cx="8424720" cy="5043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 compu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werfu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n other computers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a large amount o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M and Hard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the network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Windows 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.g. Microsoft Office Su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r fi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reated on th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333360"/>
            <a:ext cx="84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Network Interface Card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5256000" cy="401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so known as N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computer MUST have one of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communicates with the file server and other computers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45240" y="1944720"/>
            <a:ext cx="3219480" cy="357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04000" y="4941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RJ-45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33336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Network Cables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700280"/>
            <a:ext cx="4824360" cy="42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se plug into the back of each computer and link them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y go straight into the Network Interface Card inside the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603576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an RJ-45 cable, otherwise known as an Ethernet 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35290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333360"/>
            <a:ext cx="68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Switches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557360"/>
            <a:ext cx="5256000" cy="4989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switch is a single connection point for a group of compu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switch is then connected to the file server and organises the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needed with all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36352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40464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WANs HW and S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916280"/>
            <a:ext cx="5111640" cy="43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y the end of this section, you will know and understand the hardware and software involved in making a WA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49440" y="2708280"/>
            <a:ext cx="6985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333360"/>
            <a:ext cx="590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Modem - H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700280"/>
            <a:ext cx="7632720" cy="450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s for Modulator – Demod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reated to take digital signals from a computer and convert them to analogue so that they can be transmitted down a telephon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 at which a modem operates will affect the download time of web pages and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720" y="-171360"/>
            <a:ext cx="20509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33336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ISP - Internet Service Provide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700280"/>
            <a:ext cx="6480000" cy="495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SP sells Internet access to companies an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provides web servers which connect to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SP will provide it’s customers with a wide range of servi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dwidth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ail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Ho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and Telephone as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48360" y="1700280"/>
            <a:ext cx="2016360" cy="1076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948360" y="2924280"/>
            <a:ext cx="2016360" cy="122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0" r="0" b="62572"/>
          <a:stretch/>
        </p:blipFill>
        <p:spPr>
          <a:xfrm>
            <a:off x="6948360" y="4292640"/>
            <a:ext cx="2035440" cy="789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333360"/>
            <a:ext cx="84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Browser Softwar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700280"/>
            <a:ext cx="6696000" cy="51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r software allows users to view and use the web pages on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ddress 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avigation 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ookmark/Favourites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arch Eng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story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wser Setting and Internet Options e.g. Filt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64360" y="1700280"/>
            <a:ext cx="1023840" cy="10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11145" t="13283" r="11145" b="13283"/>
          <a:stretch/>
        </p:blipFill>
        <p:spPr>
          <a:xfrm>
            <a:off x="8028000" y="2997360"/>
            <a:ext cx="1116000" cy="1054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4360" y="4076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885080" y="5373720"/>
            <a:ext cx="1077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1:50:37Z</dcterms:created>
  <dc:creator>cbelshaw438</dc:creator>
  <dc:description/>
  <dc:language>en-US</dc:language>
  <cp:lastModifiedBy>debs</cp:lastModifiedBy>
  <dcterms:modified xsi:type="dcterms:W3CDTF">2008-05-29T15:18:10Z</dcterms:modified>
  <cp:revision>27</cp:revision>
  <dc:subject/>
  <dc:title>Slide 1</dc:title>
</cp:coreProperties>
</file>